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29.png" ContentType="image/png"/>
  <Override PartName="/ppt/media/image14.wmf" ContentType="image/x-wmf"/>
  <Override PartName="/ppt/media/image1.png" ContentType="image/png"/>
  <Override PartName="/ppt/media/image5.wmf" ContentType="image/x-wmf"/>
  <Override PartName="/ppt/media/image25.png" ContentType="image/png"/>
  <Override PartName="/ppt/media/image42.jpeg" ContentType="image/jpeg"/>
  <Override PartName="/ppt/media/image28.png" ContentType="image/png"/>
  <Override PartName="/ppt/media/image35.jpeg" ContentType="image/jpeg"/>
  <Override PartName="/ppt/media/image13.wmf" ContentType="image/x-wmf"/>
  <Override PartName="/ppt/media/image30.png" ContentType="image/png"/>
  <Override PartName="/ppt/media/image37.jpeg" ContentType="image/jpeg"/>
  <Override PartName="/ppt/media/image48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9.wmf" ContentType="image/x-wmf"/>
  <Override PartName="/ppt/media/image49.png" ContentType="image/png"/>
  <Override PartName="/ppt/media/image39.png" ContentType="image/png"/>
  <Override PartName="/ppt/media/image43.jpeg" ContentType="image/jpeg"/>
  <Override PartName="/ppt/media/image46.jpeg" ContentType="image/jpeg"/>
  <Override PartName="/ppt/media/image44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7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47.jpeg" ContentType="image/jpeg"/>
  <Override PartName="/ppt/media/image6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CC1-52BE-4683-9598-5D5DE5896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AE6-93B7-42A8-A970-5B594E324653}" type="slidenum">
              <a:rPr b="0" lang="en-U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331A-64D0-4508-A06F-E84E1D0FB1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EB4-6E19-4BC5-8E05-4C546E9E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A4C-D130-4BC5-9D60-7A80049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372-4CF9-4261-A742-54977CDE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4DE-1BAB-4B6B-BCFA-DA0F18C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E148-E3A6-4111-8288-A84BE0C1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1058-DFC2-484E-8CEB-7F8D3BD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D462-3559-408A-977D-319212E2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AC6-63AD-4909-B37D-8B16A95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B23-DEA0-41AC-86DD-4A3B353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5D0A-2922-4E46-93A9-CFB7BF54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08D-9D6D-4368-8928-D015AB3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882-0F13-4DD7-AC97-0D0736C4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CE92-8246-4C4F-9599-22FCEC0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A099-00C2-4470-82FE-A070912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0ADD-291A-4705-9DEA-CC3E59E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5CB9-E89D-4063-B3A6-589C1AC9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0B4D-8D67-4D19-872D-2565A567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575-6437-464D-AC30-6101514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D54-FF36-4B45-BEAD-767F0D5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1F3-9AE4-4A0D-BE76-52C1768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A64-282E-45C2-B4E7-CA2B9630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728-8203-4DFB-878F-9026732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6DC-1BA5-40E8-99A4-607921D3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F48-FFAB-4810-A26F-6892484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Arc 4"/>
            <p:cNvSpPr/>
            <p:nvPr/>
          </p:nvSpPr>
          <p:spPr>
            <a:xfrm>
              <a:off x="914400" y="539640"/>
              <a:ext cx="7391520" cy="129240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FF60-FB63-402B-AC83-09AE83DB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752480"/>
            <a:ext cx="9142560" cy="1981440"/>
            <a:chOff x="0" y="1752480"/>
            <a:chExt cx="9142560" cy="1981440"/>
          </a:xfrm>
        </p:grpSpPr>
        <p:pic>
          <p:nvPicPr>
            <p:cNvPr id="49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rc 4"/>
            <p:cNvSpPr/>
            <p:nvPr/>
          </p:nvSpPr>
          <p:spPr>
            <a:xfrm>
              <a:off x="914400" y="2292480"/>
              <a:ext cx="7391520" cy="129204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52" name="Rectangle 6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B27D-ED13-4F65-A0D7-D13F924E49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avidadamsonline.com/clouds_demo.htm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eather 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L 6.3 and 6.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Humid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umidity is the amount of water vapor in the ai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more humid the air is the more uncomfortable you fe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0% humidity is fog (stratus cloud formed on the groun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is measured with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sychromete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or hygro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w point is the temperature at which the air becomes 100% hum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tmospheric Layer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yers are defined by changes of tempera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ropospher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 weather takes place &amp; clouds are fou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tratospher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 jet stream and the ozone layer is fou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esosphere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ldest and stops most meteorites (burn u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ermosphere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p most layer, it is divided into the ionosphere (northern lights) and the exosphere (satellites)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he structure of our atmosphere!!.wmv" descr=""/>
          <p:cNvPicPr/>
          <p:nvPr/>
        </p:nvPicPr>
        <p:blipFill>
          <a:blip r:embed="rId1"/>
          <a:stretch/>
        </p:blipFill>
        <p:spPr>
          <a:xfrm>
            <a:off x="914400" y="31680"/>
            <a:ext cx="71629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51" name="Picture 9" descr="atmosphere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y Protect the Air?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atch &amp; Summarize in your not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53" name="Impact_of_Human_Activity_on_the_Environment__Global_Warming.asf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048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724040" y="550800"/>
            <a:ext cx="5791320" cy="4670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38160" y="5334120"/>
            <a:ext cx="91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Westerlies dominate the weather in the United Sta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rade winds are warm, steady breezes that blow continuously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weak surface winds are @ the equator, this area is called the doldru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7240" y="152280"/>
            <a:ext cx="90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Winds are named from the direction in which they travel fr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66600" y="17780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orse Latitu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58" name="Straight Arrow Connector 5"/>
          <p:cNvCxnSpPr>
            <a:stCxn id="157" idx="3"/>
          </p:cNvCxnSpPr>
          <p:nvPr/>
        </p:nvCxnSpPr>
        <p:spPr>
          <a:xfrm>
            <a:off x="2123640" y="1961640"/>
            <a:ext cx="839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TextBox 6"/>
          <p:cNvSpPr/>
          <p:nvPr/>
        </p:nvSpPr>
        <p:spPr>
          <a:xfrm>
            <a:off x="66600" y="270972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oldrum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0" name="Straight Arrow Connector 8"/>
          <p:cNvCxnSpPr/>
          <p:nvPr/>
        </p:nvCxnSpPr>
        <p:spPr>
          <a:xfrm>
            <a:off x="1371600" y="2886120"/>
            <a:ext cx="1296000" cy="8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Rectangle 10"/>
          <p:cNvSpPr/>
          <p:nvPr/>
        </p:nvSpPr>
        <p:spPr>
          <a:xfrm>
            <a:off x="1828800" y="550800"/>
            <a:ext cx="1828800" cy="5158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876400" y="2836800"/>
            <a:ext cx="304812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66600" y="808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Easterl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4" name="Straight Arrow Connector 14"/>
          <p:cNvCxnSpPr>
            <a:stCxn id="163" idx="3"/>
          </p:cNvCxnSpPr>
          <p:nvPr/>
        </p:nvCxnSpPr>
        <p:spPr>
          <a:xfrm>
            <a:off x="1590480" y="993600"/>
            <a:ext cx="2448360" cy="185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0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oud Forma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formation of a convective cloud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ypes of Cloud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5" descr="Click here to learn how to paint a variety of cloud types - I present nine common cloud typ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693800"/>
            <a:ext cx="1447920" cy="1725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louds"/>
          <p:cNvPicPr/>
          <p:nvPr/>
        </p:nvPicPr>
        <p:blipFill>
          <a:blip r:embed="rId3"/>
          <a:stretch/>
        </p:blipFill>
        <p:spPr>
          <a:xfrm>
            <a:off x="152280" y="1370160"/>
            <a:ext cx="1828800" cy="5451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nimbostratus"/>
          <p:cNvPicPr/>
          <p:nvPr/>
        </p:nvPicPr>
        <p:blipFill>
          <a:blip r:embed="rId4"/>
          <a:stretch/>
        </p:blipFill>
        <p:spPr>
          <a:xfrm>
            <a:off x="4648320" y="3886200"/>
            <a:ext cx="152388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0"/>
          <p:cNvSpPr txBox="1"/>
          <p:nvPr/>
        </p:nvSpPr>
        <p:spPr>
          <a:xfrm>
            <a:off x="4971960" y="3433680"/>
            <a:ext cx="638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RU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WordArt 11"/>
          <p:cNvSpPr txBox="1"/>
          <p:nvPr/>
        </p:nvSpPr>
        <p:spPr>
          <a:xfrm>
            <a:off x="4995720" y="5819760"/>
            <a:ext cx="1133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mbostratu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1498680" y="2376360"/>
            <a:ext cx="2847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ir Weather Clou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1482840" y="4302000"/>
            <a:ext cx="30286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understorm Cloud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2049480" y="5964120"/>
            <a:ext cx="2276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vercast drizz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WordArt 15"/>
          <p:cNvSpPr txBox="1"/>
          <p:nvPr/>
        </p:nvSpPr>
        <p:spPr>
          <a:xfrm>
            <a:off x="5908680" y="2514600"/>
            <a:ext cx="3219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ir now, bad weather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next 24 hour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WordArt 16"/>
          <p:cNvSpPr txBox="1"/>
          <p:nvPr/>
        </p:nvSpPr>
        <p:spPr>
          <a:xfrm>
            <a:off x="6019920" y="5029200"/>
            <a:ext cx="1685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ys of rai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52280" y="-2268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120" y="342756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ather is caused by the unequal heating of the Earth’s surface.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rm air rises and cool air sin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rm air = high pressu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d air = low pres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Our World_ What is Weather_.wmv" descr=""/>
          <p:cNvPicPr/>
          <p:nvPr/>
        </p:nvPicPr>
        <p:blipFill>
          <a:blip r:embed="rId1"/>
          <a:stretch/>
        </p:blipFill>
        <p:spPr>
          <a:xfrm>
            <a:off x="4343400" y="158760"/>
            <a:ext cx="4376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How to read a weather m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2" name="How to Read a Weather Map.wmv" descr=""/>
          <p:cNvPicPr/>
          <p:nvPr/>
        </p:nvPicPr>
        <p:blipFill>
          <a:blip r:embed="rId1"/>
          <a:stretch/>
        </p:blipFill>
        <p:spPr>
          <a:xfrm>
            <a:off x="1333440" y="1447920"/>
            <a:ext cx="64771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533520"/>
            <a:ext cx="906768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Identify and explain the composition, properties, layers, and structure of the atmospher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  <a:ea typeface="Times New Roman"/>
              </a:rPr>
              <a:t>Analyze the properties that can be observed and measured to predict air quality: air pressure, humidity, moisture, and temperature and air quality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Examine evidence (charts and graphs) that atmospheric properties can be studied to predict atmospheric conditions and weather hazar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nalyze the role of the sun in the heating and cooling that forms clouds and order the sequence of events that takes place in the formation of a clou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Relate the three states of water to the water cycl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ompare and contrast types of precipitation, cloud types, and relate cloud types to weather conditions and their location in the atmosphe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Map the movement of cold and warm fronts, and interpret their effects on observable weather conditions.  Interpret basic weather maps, and make forecasts based on the information pres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ompare and contrast weather-related phenomena including thunderstorms, tornados, hurricanes, and drought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ssess the use of technology in predicting, monitoring, and recording atmospheric phenomena.  Weather satellites ro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nalyze and explain some of the effects that natural events (forest fires and volcanic eruptions) and human activities may have on weather, atmosphere, and clima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nalyze and explain the difference in average winter temperatures among areas in central and western Virginia and cities and counties along the Chesapeake Bay and Atlantic </a:t>
            </a:r>
            <a:r>
              <a:rPr b="1" lang="en-US" sz="1800" spc="-1" strike="noStrike">
                <a:solidFill>
                  <a:srgbClr val="000066"/>
                </a:solidFill>
                <a:latin typeface="Arial Narrow"/>
                <a:ea typeface="Times New Roman"/>
              </a:rPr>
              <a:t>coast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Thunderstorm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6091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understorm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 cold meets warm front forming heavy rainstorm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 thunder and lightning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the air is heated by lightning it expand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ckly resulting in loud sound waves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ghtn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sudden discharge of electricit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ween cloud and cloud; cloud and ground.  Leading cause of forest fires.  Can strike people, animals, or build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fety – avoid open spaces outside; don’t go under trees for shelter, avoid sinks, bathtubs, televisions, and telephones while inside during a lightning stor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Hurricane, Cyclone, Typho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9140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Hurrican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– power cyclones that form over tropical area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Typhoo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hurricane that forms over the Pacific ocean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he eye of the  storm is calm but the winds reach speeds  of 74 to over 155 m/hr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igh winds, storm surges, flooding, LOW PRESSURE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Most powerful  of all storm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2228760" y="4097160"/>
            <a:ext cx="49910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Tornado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1447920"/>
            <a:ext cx="8953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y destructive &amp; most viol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tating counter-clock wise, funnel-shap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s in low, heavy cumulonimbu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ud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s like a giant vacuum clean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PRESSURE!!!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ociated with severe thunderst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ccur in tornado alley in the United States on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4" descr="torn2"/>
          <p:cNvPicPr/>
          <p:nvPr/>
        </p:nvPicPr>
        <p:blipFill>
          <a:blip r:embed="rId1"/>
          <a:stretch/>
        </p:blipFill>
        <p:spPr>
          <a:xfrm>
            <a:off x="7270920" y="0"/>
            <a:ext cx="187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eather Symbol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92" name="Picture 12" descr="http://www.theweatherprediction.com/kid_weather_questions/images/high.jpg"/>
          <p:cNvPicPr/>
          <p:nvPr/>
        </p:nvPicPr>
        <p:blipFill>
          <a:blip r:embed="rId1"/>
          <a:stretch/>
        </p:blipFill>
        <p:spPr>
          <a:xfrm>
            <a:off x="162000" y="1143000"/>
            <a:ext cx="1047600" cy="1035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1447920" y="11984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System: Sunny weather will often occur under high pressu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14" descr="http://www.theweatherprediction.com/kid_weather_questions/images/low.jpg"/>
          <p:cNvPicPr/>
          <p:nvPr/>
        </p:nvPicPr>
        <p:blipFill>
          <a:blip r:embed="rId2"/>
          <a:stretch/>
        </p:blipFill>
        <p:spPr>
          <a:xfrm>
            <a:off x="244440" y="2546280"/>
            <a:ext cx="965160" cy="927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461960" y="2546280"/>
            <a:ext cx="75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w Pressure System: lousy weather,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pins counter clockwis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16" descr="http://www.theweatherprediction.com/kid_weather_questions/images/coldfront.jpg"/>
          <p:cNvPicPr/>
          <p:nvPr/>
        </p:nvPicPr>
        <p:blipFill>
          <a:blip r:embed="rId3"/>
          <a:stretch/>
        </p:blipFill>
        <p:spPr>
          <a:xfrm>
            <a:off x="162000" y="3733920"/>
            <a:ext cx="1974600" cy="1085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2286000" y="3733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d Front:. When the cold front passes the temperature drops and the rising air along the front can bring precipit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18" descr="http://www.theweatherprediction.com/kid_weather_questions/images/warmfront.jpg"/>
          <p:cNvPicPr/>
          <p:nvPr/>
        </p:nvPicPr>
        <p:blipFill>
          <a:blip r:embed="rId4"/>
          <a:stretch/>
        </p:blipFill>
        <p:spPr>
          <a:xfrm>
            <a:off x="42840" y="5475240"/>
            <a:ext cx="2838600" cy="787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2954160" y="526896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m Front can bring precipitation especially in the region where the warm front is approaching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http://www.theweatherprediction.com/kid_weather_questions/images/stationaryfront.jpg"/>
          <p:cNvPicPr/>
          <p:nvPr/>
        </p:nvPicPr>
        <p:blipFill>
          <a:blip r:embed="rId1"/>
          <a:stretch/>
        </p:blipFill>
        <p:spPr>
          <a:xfrm>
            <a:off x="533520" y="2057400"/>
            <a:ext cx="1409760" cy="1809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1959120" y="2133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ionary front has a little or no movement, rain for day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3" descr="http://www.theweatherprediction.com/kid_weather_questions/images/occludedfront.jpg"/>
          <p:cNvPicPr/>
          <p:nvPr/>
        </p:nvPicPr>
        <p:blipFill>
          <a:blip r:embed="rId2"/>
          <a:stretch/>
        </p:blipFill>
        <p:spPr>
          <a:xfrm>
            <a:off x="663480" y="4191120"/>
            <a:ext cx="1149480" cy="2057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2133720" y="43434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luded Front: cold front that overtakes a warm fron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ommonly occur close to a maturing low pressure syste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eather Map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5" descr="noaa"/>
          <p:cNvPicPr/>
          <p:nvPr/>
        </p:nvPicPr>
        <p:blipFill>
          <a:blip r:embed="rId1"/>
          <a:stretch/>
        </p:blipFill>
        <p:spPr>
          <a:xfrm>
            <a:off x="457200" y="46080"/>
            <a:ext cx="82328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6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Isobars-connect areas of equal pressur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08" name="Picture 5" descr="isobars"/>
          <p:cNvPicPr/>
          <p:nvPr/>
        </p:nvPicPr>
        <p:blipFill>
          <a:blip r:embed="rId1"/>
          <a:stretch/>
        </p:blipFill>
        <p:spPr>
          <a:xfrm>
            <a:off x="81000" y="914400"/>
            <a:ext cx="8853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eather Instruments: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py when I paus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10" name="Weather Instruments.wmv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5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-457200"/>
            <a:ext cx="88390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Make sure you know: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080" y="1294920"/>
            <a:ext cx="9097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00000"/>
                </a:solidFill>
                <a:latin typeface="Times New Roman"/>
              </a:rPr>
              <a:t>Warm, moist air is less dense than cold, dry air, so it rises relative to colder, drier air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Warm, moist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air rises and actually gives off some heat as the moisture condenses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Air exerts pressure. Air pressure decreases with altitude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Forest fires and volcanic eruptions are two natural processes that affect the Earth’s atmosphere. Many gaseous compound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&amp;</a:t>
            </a: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 particles are released into the atmosphere by human activity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00"/>
                </a:solidFill>
                <a:latin typeface="Times New Roman"/>
              </a:rPr>
              <a:t>The amount of heat energy, water vapor, and the pressure of the air largely determine what the weather conditions are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ir pressure is measured in millibar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Coriolis Effect makes winds rotate to the right (clockwise) in the Northern Hemispher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54400" indent="-55440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Earths Energy Budge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320" y="44956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Earth’s atmosphere is 78% nitrogen, 21% oxygen, and the rest trace gas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cluding; argon, carbon dioxide, and water vap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5" descr="gcsechem_47"/>
          <p:cNvPicPr/>
          <p:nvPr/>
        </p:nvPicPr>
        <p:blipFill>
          <a:blip r:embed="rId1"/>
          <a:stretch/>
        </p:blipFill>
        <p:spPr>
          <a:xfrm>
            <a:off x="5029200" y="874800"/>
            <a:ext cx="4152960" cy="3225600"/>
          </a:xfrm>
          <a:prstGeom prst="rect">
            <a:avLst/>
          </a:prstGeom>
          <a:ln w="0">
            <a:noFill/>
          </a:ln>
        </p:spPr>
      </p:pic>
      <p:pic>
        <p:nvPicPr>
          <p:cNvPr id="109" name="Real World_ Monitoring Earth's Energy Budget with CERES.wmv" descr=""/>
          <p:cNvPicPr/>
          <p:nvPr/>
        </p:nvPicPr>
        <p:blipFill>
          <a:blip r:embed="rId2"/>
          <a:stretch/>
        </p:blipFill>
        <p:spPr>
          <a:xfrm>
            <a:off x="76320" y="828720"/>
            <a:ext cx="495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Earth’s Energy Budget:</a:t>
            </a:r>
            <a:br>
              <a:rPr sz="40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51% absorbed by the surface</a:t>
            </a:r>
            <a:br>
              <a:rPr sz="24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19% absorbed by atmosphere</a:t>
            </a:r>
            <a:br>
              <a:rPr sz="24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Remaining 30% lost back to space…</a:t>
            </a:r>
            <a:br>
              <a:rPr sz="2400"/>
            </a:b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COPY THE PICTURE 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11" name="Picture 5" descr="LWRadiationBudget"/>
          <p:cNvPicPr/>
          <p:nvPr/>
        </p:nvPicPr>
        <p:blipFill>
          <a:blip r:embed="rId1"/>
          <a:stretch/>
        </p:blipFill>
        <p:spPr>
          <a:xfrm>
            <a:off x="990720" y="1981080"/>
            <a:ext cx="7619760" cy="4962600"/>
          </a:xfrm>
          <a:prstGeom prst="rect">
            <a:avLst/>
          </a:prstGeom>
          <a:ln w="0">
            <a:noFill/>
          </a:ln>
        </p:spPr>
      </p:pic>
      <p:pic>
        <p:nvPicPr>
          <p:cNvPr id="112" name="Ink 1" descr=""/>
          <p:cNvPicPr/>
          <p:nvPr/>
        </p:nvPicPr>
        <p:blipFill>
          <a:blip r:embed="rId2"/>
          <a:stretch/>
        </p:blipFill>
        <p:spPr>
          <a:xfrm>
            <a:off x="2827440" y="6202440"/>
            <a:ext cx="954000" cy="441360"/>
          </a:xfrm>
          <a:prstGeom prst="rect">
            <a:avLst/>
          </a:prstGeom>
          <a:ln w="0">
            <a:noFill/>
          </a:ln>
        </p:spPr>
      </p:pic>
      <p:pic>
        <p:nvPicPr>
          <p:cNvPr id="113" name="Ink 2" descr=""/>
          <p:cNvPicPr/>
          <p:nvPr/>
        </p:nvPicPr>
        <p:blipFill>
          <a:blip r:embed="rId3"/>
          <a:stretch/>
        </p:blipFill>
        <p:spPr>
          <a:xfrm>
            <a:off x="2792520" y="6173640"/>
            <a:ext cx="9237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Ink 3" descr=""/>
          <p:cNvPicPr/>
          <p:nvPr/>
        </p:nvPicPr>
        <p:blipFill>
          <a:blip r:embed="rId4"/>
          <a:stretch/>
        </p:blipFill>
        <p:spPr>
          <a:xfrm>
            <a:off x="4684680" y="5159520"/>
            <a:ext cx="711360" cy="419040"/>
          </a:xfrm>
          <a:prstGeom prst="rect">
            <a:avLst/>
          </a:prstGeom>
          <a:ln w="0">
            <a:noFill/>
          </a:ln>
        </p:spPr>
      </p:pic>
      <p:pic>
        <p:nvPicPr>
          <p:cNvPr id="115" name="Ink 4" descr=""/>
          <p:cNvPicPr/>
          <p:nvPr/>
        </p:nvPicPr>
        <p:blipFill>
          <a:blip r:embed="rId5"/>
          <a:stretch/>
        </p:blipFill>
        <p:spPr>
          <a:xfrm>
            <a:off x="4707000" y="5416560"/>
            <a:ext cx="352440" cy="204840"/>
          </a:xfrm>
          <a:prstGeom prst="rect">
            <a:avLst/>
          </a:prstGeom>
          <a:ln w="0">
            <a:noFill/>
          </a:ln>
        </p:spPr>
      </p:pic>
      <p:pic>
        <p:nvPicPr>
          <p:cNvPr id="116" name="Ink 5" descr=""/>
          <p:cNvPicPr/>
          <p:nvPr/>
        </p:nvPicPr>
        <p:blipFill>
          <a:blip r:embed="rId6"/>
          <a:stretch/>
        </p:blipFill>
        <p:spPr>
          <a:xfrm>
            <a:off x="4241880" y="5180040"/>
            <a:ext cx="16891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Ink 6" descr=""/>
          <p:cNvPicPr/>
          <p:nvPr/>
        </p:nvPicPr>
        <p:blipFill>
          <a:blip r:embed="rId7"/>
          <a:stretch/>
        </p:blipFill>
        <p:spPr>
          <a:xfrm>
            <a:off x="3892680" y="3459240"/>
            <a:ext cx="147456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Ink 7" descr=""/>
          <p:cNvPicPr/>
          <p:nvPr/>
        </p:nvPicPr>
        <p:blipFill>
          <a:blip r:embed="rId8"/>
          <a:stretch/>
        </p:blipFill>
        <p:spPr>
          <a:xfrm>
            <a:off x="1098720" y="4373640"/>
            <a:ext cx="11318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Ink 8" descr=""/>
          <p:cNvPicPr/>
          <p:nvPr/>
        </p:nvPicPr>
        <p:blipFill>
          <a:blip r:embed="rId9"/>
          <a:stretch/>
        </p:blipFill>
        <p:spPr>
          <a:xfrm>
            <a:off x="1104840" y="4479840"/>
            <a:ext cx="110484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Ink 9" descr=""/>
          <p:cNvPicPr/>
          <p:nvPr/>
        </p:nvPicPr>
        <p:blipFill>
          <a:blip r:embed="rId10"/>
          <a:stretch/>
        </p:blipFill>
        <p:spPr>
          <a:xfrm>
            <a:off x="3905280" y="3516480"/>
            <a:ext cx="1319040" cy="419040"/>
          </a:xfrm>
          <a:prstGeom prst="rect">
            <a:avLst/>
          </a:prstGeom>
          <a:ln w="0">
            <a:noFill/>
          </a:ln>
        </p:spPr>
      </p:pic>
      <p:pic>
        <p:nvPicPr>
          <p:cNvPr id="121" name="Ink 10" descr=""/>
          <p:cNvPicPr/>
          <p:nvPr/>
        </p:nvPicPr>
        <p:blipFill>
          <a:blip r:embed="rId11"/>
          <a:stretch/>
        </p:blipFill>
        <p:spPr>
          <a:xfrm>
            <a:off x="4427640" y="5180040"/>
            <a:ext cx="1253880" cy="820800"/>
          </a:xfrm>
          <a:prstGeom prst="rect">
            <a:avLst/>
          </a:prstGeom>
          <a:ln w="0">
            <a:noFill/>
          </a:ln>
        </p:spPr>
      </p:pic>
      <p:pic>
        <p:nvPicPr>
          <p:cNvPr id="122" name="Ink 11" descr=""/>
          <p:cNvPicPr/>
          <p:nvPr/>
        </p:nvPicPr>
        <p:blipFill>
          <a:blip r:embed="rId12"/>
          <a:stretch/>
        </p:blipFill>
        <p:spPr>
          <a:xfrm>
            <a:off x="1992240" y="2708280"/>
            <a:ext cx="20462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Ink 12" descr=""/>
          <p:cNvPicPr/>
          <p:nvPr/>
        </p:nvPicPr>
        <p:blipFill>
          <a:blip r:embed="rId13"/>
          <a:stretch/>
        </p:blipFill>
        <p:spPr>
          <a:xfrm>
            <a:off x="2563920" y="2793960"/>
            <a:ext cx="1388880" cy="184320"/>
          </a:xfrm>
          <a:prstGeom prst="rect">
            <a:avLst/>
          </a:prstGeom>
          <a:ln w="0">
            <a:noFill/>
          </a:ln>
        </p:spPr>
      </p:pic>
      <p:pic>
        <p:nvPicPr>
          <p:cNvPr id="124" name="Ink 13" descr=""/>
          <p:cNvPicPr/>
          <p:nvPr/>
        </p:nvPicPr>
        <p:blipFill>
          <a:blip r:embed="rId14"/>
          <a:stretch/>
        </p:blipFill>
        <p:spPr>
          <a:xfrm>
            <a:off x="2284560" y="2994120"/>
            <a:ext cx="1960560" cy="191880"/>
          </a:xfrm>
          <a:prstGeom prst="rect">
            <a:avLst/>
          </a:prstGeom>
          <a:ln w="0">
            <a:noFill/>
          </a:ln>
        </p:spPr>
      </p:pic>
      <p:pic>
        <p:nvPicPr>
          <p:cNvPr id="125" name="Ink 14" descr=""/>
          <p:cNvPicPr/>
          <p:nvPr/>
        </p:nvPicPr>
        <p:blipFill>
          <a:blip r:embed="rId15"/>
          <a:stretch/>
        </p:blipFill>
        <p:spPr>
          <a:xfrm>
            <a:off x="2990880" y="2973240"/>
            <a:ext cx="1625400" cy="204840"/>
          </a:xfrm>
          <a:prstGeom prst="rect">
            <a:avLst/>
          </a:prstGeom>
          <a:ln w="0">
            <a:noFill/>
          </a:ln>
        </p:spPr>
      </p:pic>
      <p:pic>
        <p:nvPicPr>
          <p:cNvPr id="126" name="Ink 15" descr=""/>
          <p:cNvPicPr/>
          <p:nvPr/>
        </p:nvPicPr>
        <p:blipFill>
          <a:blip r:embed="rId16"/>
          <a:stretch/>
        </p:blipFill>
        <p:spPr>
          <a:xfrm>
            <a:off x="2227320" y="2994120"/>
            <a:ext cx="1539720" cy="398520"/>
          </a:xfrm>
          <a:prstGeom prst="rect">
            <a:avLst/>
          </a:prstGeom>
          <a:ln w="0">
            <a:noFill/>
          </a:ln>
        </p:spPr>
      </p:pic>
      <p:pic>
        <p:nvPicPr>
          <p:cNvPr id="127" name="Ink 16" descr=""/>
          <p:cNvPicPr/>
          <p:nvPr/>
        </p:nvPicPr>
        <p:blipFill>
          <a:blip r:embed="rId17"/>
          <a:stretch/>
        </p:blipFill>
        <p:spPr>
          <a:xfrm>
            <a:off x="-15840" y="2944800"/>
            <a:ext cx="2689200" cy="727200"/>
          </a:xfrm>
          <a:prstGeom prst="rect">
            <a:avLst/>
          </a:prstGeom>
          <a:ln w="0">
            <a:noFill/>
          </a:ln>
        </p:spPr>
      </p:pic>
      <p:pic>
        <p:nvPicPr>
          <p:cNvPr id="128" name="Ink 17" descr=""/>
          <p:cNvPicPr/>
          <p:nvPr/>
        </p:nvPicPr>
        <p:blipFill>
          <a:blip r:embed="rId18"/>
          <a:stretch/>
        </p:blipFill>
        <p:spPr>
          <a:xfrm>
            <a:off x="120600" y="3294000"/>
            <a:ext cx="1517760" cy="355680"/>
          </a:xfrm>
          <a:prstGeom prst="rect">
            <a:avLst/>
          </a:prstGeom>
          <a:ln w="0">
            <a:noFill/>
          </a:ln>
        </p:spPr>
      </p:pic>
      <p:pic>
        <p:nvPicPr>
          <p:cNvPr id="129" name="Ink 18" descr=""/>
          <p:cNvPicPr/>
          <p:nvPr/>
        </p:nvPicPr>
        <p:blipFill>
          <a:blip r:embed="rId19"/>
          <a:stretch/>
        </p:blipFill>
        <p:spPr>
          <a:xfrm>
            <a:off x="1606680" y="330192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30" name="Ink 19" descr=""/>
          <p:cNvPicPr/>
          <p:nvPr/>
        </p:nvPicPr>
        <p:blipFill>
          <a:blip r:embed="rId20"/>
          <a:stretch/>
        </p:blipFill>
        <p:spPr>
          <a:xfrm>
            <a:off x="392040" y="3102120"/>
            <a:ext cx="2095560" cy="398160"/>
          </a:xfrm>
          <a:prstGeom prst="rect">
            <a:avLst/>
          </a:prstGeom>
          <a:ln w="0">
            <a:noFill/>
          </a:ln>
        </p:spPr>
      </p:pic>
      <p:pic>
        <p:nvPicPr>
          <p:cNvPr id="131" name="Ink 20" descr=""/>
          <p:cNvPicPr/>
          <p:nvPr/>
        </p:nvPicPr>
        <p:blipFill>
          <a:blip r:embed="rId21"/>
          <a:stretch/>
        </p:blipFill>
        <p:spPr>
          <a:xfrm>
            <a:off x="2049480" y="2879640"/>
            <a:ext cx="13320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76320" y="12952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00000"/>
                </a:solidFill>
                <a:latin typeface="Times New Roman"/>
              </a:rPr>
              <a:t>The Earth receives only a very small portion of the sun’s energy, yet this energy is responsible for powering the motion of the atmosphere, the oceans, and many processes at the Earth’s surface.</a:t>
            </a:r>
            <a:br>
              <a:rPr sz="2000"/>
            </a:b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Incoming solar radiation is in close balance with the energy that leaves the atmosphere; otherwise the Earth would heat up or cool down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Excess carbon dioxide and other gases may disrupt this balance, creating a Greenhouse Effec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Abou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/3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of the sun’s incoming energy is reflected back out to space. Abou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/2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of the energy striking the Earth is absorbed by the surface.</a:t>
            </a:r>
            <a:br>
              <a:rPr sz="2000"/>
            </a:b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Earth’s surface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is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heated unequally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This i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ue to the til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of Earth on its axis.  The equator gets more sun the poles get less.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Radiation and convection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from the surface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nsfer heat energy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. This energy </a:t>
            </a: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powers the global circulation of the atmosphere and the oceans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on our planet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Remember that heat rises, cools and sinks.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he sun is responsible for most energy sources on Eart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budget"/>
          <p:cNvPicPr/>
          <p:nvPr/>
        </p:nvPicPr>
        <p:blipFill>
          <a:blip r:embed="rId1"/>
          <a:stretch/>
        </p:blipFill>
        <p:spPr>
          <a:xfrm>
            <a:off x="1066680" y="-111240"/>
            <a:ext cx="6553440" cy="4619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76320" y="4495680"/>
            <a:ext cx="899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ow does the amount of energy Earth receives from the sun compare with the energy the leaves Earth?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hat do you predict would happen if there was a shortage of incoming solar radiation?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hat would happen if Earth retained more thermal energy?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1800" y="45720"/>
            <a:ext cx="46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Energy Transfer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diation brings all of the energy to the Earth from the su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ction currents redistribute the energy throughout the atmosphere and the ocea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5" descr="greenhouse_effect"/>
          <p:cNvPicPr/>
          <p:nvPr/>
        </p:nvPicPr>
        <p:blipFill>
          <a:blip r:embed="rId1"/>
          <a:stretch/>
        </p:blipFill>
        <p:spPr>
          <a:xfrm>
            <a:off x="4721400" y="380880"/>
            <a:ext cx="43988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onvect1"/>
          <p:cNvPicPr/>
          <p:nvPr/>
        </p:nvPicPr>
        <p:blipFill>
          <a:blip r:embed="rId2"/>
          <a:stretch/>
        </p:blipFill>
        <p:spPr>
          <a:xfrm>
            <a:off x="4721400" y="3873600"/>
            <a:ext cx="44226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Currents in the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tmosphere and Ocean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vection currents redistribute the energy all over the planet that comes from the sun.  The average mean temperature is fairly warm because of these curr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4" descr="fastcirc"/>
          <p:cNvPicPr/>
          <p:nvPr/>
        </p:nvPicPr>
        <p:blipFill>
          <a:blip r:embed="rId1"/>
          <a:stretch/>
        </p:blipFill>
        <p:spPr>
          <a:xfrm>
            <a:off x="4648320" y="1257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GlobalHeat"/>
          <p:cNvPicPr/>
          <p:nvPr/>
        </p:nvPicPr>
        <p:blipFill>
          <a:blip r:embed="rId2"/>
          <a:stretch/>
        </p:blipFill>
        <p:spPr>
          <a:xfrm>
            <a:off x="4648320" y="4114800"/>
            <a:ext cx="38862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ir Press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ir pressure is the amount of air pushing dow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 us.  It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d with a baro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pressure means lousy weather, cool &amp; rai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 pressure means fair weather, warm &amp; sun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ase in altitude = decrease in air pres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21:52:28Z</dcterms:created>
  <dc:creator>none</dc:creator>
  <dc:description/>
  <dc:language>en-US</dc:language>
  <cp:lastModifiedBy>Kimberly K. Piper</cp:lastModifiedBy>
  <dcterms:modified xsi:type="dcterms:W3CDTF">2016-05-09T13:29:38Z</dcterms:modified>
  <cp:revision>18</cp:revision>
  <dc:subject/>
  <dc:title>Weather</dc:title>
</cp:coreProperties>
</file>